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CA0-FF1E-4D1B-82E6-95212C3D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B68-122C-4A6E-A49E-E3096EBD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9F1-AF44-4B52-A997-5961B721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979-9C8B-4ED5-9661-638449E3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B2E-1A32-40F6-826F-B9C79691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515-7D42-4178-A072-9688DF88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D37-5994-41B9-A948-B0FE114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978-18B5-4B41-B792-456B3D32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103-681F-4CD3-AB79-27E76158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641-CA5A-4BEC-9D93-0645026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97F-E225-4D13-9804-88FC6DE5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D03-BFF3-42A1-B6D2-9A21C67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8A4-8829-4F6D-83D2-CBE422968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Culture in Russ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The entertainment of Rus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By Carmen Ch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3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s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e Sk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e Hoc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s also enj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♪♫ </a:t>
            </a: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alle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♪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ballet dancers are famous around the world. Some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a Pavlova (fem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hail Baryshnikov (m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dolf Nureyev (m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Tchaikovsky wr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eping Beauty B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cracker Suite B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12 Overture (celebrated the defeat of France’s invasion in 18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375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325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35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25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10:21Z</dcterms:created>
  <dc:creator> </dc:creator>
  <dc:description/>
  <dc:language>en-US</dc:language>
  <cp:lastModifiedBy> </cp:lastModifiedBy>
  <dcterms:modified xsi:type="dcterms:W3CDTF">2010-12-20T14:14:13Z</dcterms:modified>
  <cp:revision>6</cp:revision>
  <dc:subject/>
  <dc:title>Culture in Russia</dc:title>
</cp:coreProperties>
</file>